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0D7-7883-4137-B85D-90D2645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C41-9090-4436-8B6D-E2B6374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258-B527-40DA-BF15-6E013ECA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F1C-6EC9-4BAB-B2F1-E8FF4FE4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8DD-303A-4C4C-A06C-CC1A8D92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734-CC55-4319-B243-E22B668E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0FC-BE8D-4B11-A9C3-214E70D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3A2-CFE0-4CA4-93C1-0A9932F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194-7FCF-42DA-862C-D41D88B3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8AA-0DD9-43AE-AB51-4870B3C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C0D-08F7-4AA1-89AD-F0D08D0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8E6-CC1C-43EF-BC03-D3A32ED8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6C80-E148-443F-84E7-36C07A348FB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84000" y="2136240"/>
            <a:ext cx="6940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Η επιχείρηση ενισχύθηκε στο πλαίσιο τ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Περιφερειακού Επιχειρησιακού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…………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Myriad Pro"/>
              </a:rPr>
              <a:t>Με τη συγχρηματοδότηση της Ελλάδας και της Ευρωπαϊκής Έν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llas_Flag"/>
          <p:cNvPicPr/>
          <p:nvPr/>
        </p:nvPicPr>
        <p:blipFill>
          <a:blip r:embed="rId1"/>
          <a:stretch/>
        </p:blipFill>
        <p:spPr>
          <a:xfrm>
            <a:off x="450720" y="725400"/>
            <a:ext cx="1116000" cy="74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aune"/>
          <p:cNvPicPr/>
          <p:nvPr/>
        </p:nvPicPr>
        <p:blipFill>
          <a:blip r:embed="rId2"/>
          <a:stretch/>
        </p:blipFill>
        <p:spPr>
          <a:xfrm>
            <a:off x="453960" y="5292720"/>
            <a:ext cx="1265400" cy="8589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1719360" y="5276880"/>
            <a:ext cx="184140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33399"/>
                </a:solidFill>
                <a:latin typeface="Myriad Pro"/>
              </a:rPr>
              <a:t>Ευρωπαϊκή Ένωσ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333399"/>
                </a:solidFill>
                <a:latin typeface="Myriad Pro"/>
              </a:rPr>
              <a:t>Ευρωπαϊκό  Ταμείο Περιφερειακής Ανάπτυξη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logo_espa"/>
          <p:cNvPicPr/>
          <p:nvPr/>
        </p:nvPicPr>
        <p:blipFill>
          <a:blip r:embed="rId3"/>
          <a:stretch/>
        </p:blipFill>
        <p:spPr>
          <a:xfrm>
            <a:off x="6907320" y="530280"/>
            <a:ext cx="1560240" cy="1258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5181480" y="542592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9900"/>
                </a:solidFill>
                <a:latin typeface="Myriad Pro"/>
              </a:rPr>
              <a:t>ποιότητα ζωής για όλ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C:\Users\lina.EFEPAE\Desktop\ΛΟΓΟΤΥΠΑ\logo_YPYNT_FEB 2015_new 1_el 2.jpg"/>
          <p:cNvPicPr/>
          <p:nvPr/>
        </p:nvPicPr>
        <p:blipFill>
          <a:blip r:embed="rId4"/>
          <a:stretch/>
        </p:blipFill>
        <p:spPr>
          <a:xfrm>
            <a:off x="2662200" y="522360"/>
            <a:ext cx="345456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2:13:17Z</dcterms:created>
  <dc:creator>User Of</dc:creator>
  <dc:description/>
  <dc:language>en-US</dc:language>
  <cp:lastModifiedBy>lina</cp:lastModifiedBy>
  <dcterms:modified xsi:type="dcterms:W3CDTF">2015-10-07T07:13:11Z</dcterms:modified>
  <cp:revision>15</cp:revision>
  <dc:subject/>
  <dc:title>Slide 1</dc:title>
</cp:coreProperties>
</file>